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1990-B9F6-4E40-89DC-47DDB9FF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26B0-E026-4DC2-835B-7515B6D4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EA9A-B7DA-42FF-8723-25FCAAE4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C19D-EA32-41E5-942E-80E1217A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ABF0-9417-486B-824D-0215F330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9D00-8D99-4C5A-8227-460AF031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75BA-05FD-4ADB-AD1A-F64B96C7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C58E-10AE-4BA4-A9C6-5DEDDE31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313E-60EE-4BE2-BC12-48C8386F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70D9-2B01-42C8-879B-CE47E052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87B8-BDDD-4ADD-91F8-D81AF3BE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CA77-A096-4DA6-B372-37B9FD26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8265-B79F-4A05-A483-566714EC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64AD-4BB0-42EE-A79B-86CE5EAE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8EF2-4C0B-43A5-97BF-492CBFDF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C832-F1E8-4093-8DEE-F3E37B3F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72D6-1D5C-411C-A940-3CFFD1B3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25E3-E90D-4A6D-992F-23C708A5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581A-C7E3-4985-94D9-FC058EE1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CE39-5C83-4A20-8386-FC26DE28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FFF9-BBE4-4118-B35D-1F783061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9AF6-82E0-4E2D-A1B7-0D63E642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7388-7685-498A-9543-7C9B586C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8011-B923-4CA7-B30D-C90A7F21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5B92-C5F9-4F9A-9225-EDC0D57C5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F115-75E0-4749-8FF6-7C3DC451EA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Szenari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68360" y="2119680"/>
            <a:ext cx="8208720" cy="1390680"/>
            <a:chOff x="468360" y="2119680"/>
            <a:chExt cx="8208720" cy="1390680"/>
          </a:xfrm>
        </p:grpSpPr>
        <p:cxnSp>
          <p:nvCxnSpPr>
            <p:cNvPr id="515" name="_s2086"/>
            <p:cNvCxnSpPr>
              <a:stCxn id="516" idx="0"/>
              <a:endCxn id="517" idx="2"/>
            </p:cNvCxnSpPr>
            <p:nvPr/>
          </p:nvCxnSpPr>
          <p:spPr>
            <a:xfrm flipV="1" rot="16200000">
              <a:off x="6154920" y="973440"/>
              <a:ext cx="219240" cy="3383280"/>
            </a:xfrm>
            <a:prstGeom prst="bentConnector5">
              <a:avLst>
                <a:gd name="adj1" fmla="val 105921"/>
                <a:gd name="adj2" fmla="val 49856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8" name="_s2084"/>
            <p:cNvCxnSpPr>
              <a:stCxn id="519" idx="0"/>
              <a:endCxn id="517" idx="2"/>
            </p:cNvCxnSpPr>
            <p:nvPr/>
          </p:nvCxnSpPr>
          <p:spPr>
            <a:xfrm flipV="1" rot="16200000">
              <a:off x="5309280" y="1819440"/>
              <a:ext cx="219240" cy="1691640"/>
            </a:xfrm>
            <a:prstGeom prst="bentConnector5">
              <a:avLst>
                <a:gd name="adj1" fmla="val 105921"/>
                <a:gd name="adj2" fmla="val -56343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0" name="_s2082"/>
            <p:cNvCxnSpPr>
              <a:stCxn id="521" idx="0"/>
              <a:endCxn id="517" idx="2"/>
            </p:cNvCxnSpPr>
            <p:nvPr/>
          </p:nvCxnSpPr>
          <p:spPr>
            <a:xfrm flipH="1" flipV="1" rot="5400000">
              <a:off x="4463280" y="2665080"/>
              <a:ext cx="219240" cy="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2" name="_s2080"/>
            <p:cNvCxnSpPr>
              <a:stCxn id="523" idx="0"/>
              <a:endCxn id="517" idx="2"/>
            </p:cNvCxnSpPr>
            <p:nvPr/>
          </p:nvCxnSpPr>
          <p:spPr>
            <a:xfrm flipH="1" flipV="1" rot="5400000">
              <a:off x="3617640" y="1819080"/>
              <a:ext cx="219240" cy="1692360"/>
            </a:xfrm>
            <a:prstGeom prst="bentConnector5">
              <a:avLst>
                <a:gd name="adj1" fmla="val 105921"/>
                <a:gd name="adj2" fmla="val -56340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4" name="_s2078"/>
            <p:cNvCxnSpPr>
              <a:stCxn id="525" idx="0"/>
              <a:endCxn id="517" idx="2"/>
            </p:cNvCxnSpPr>
            <p:nvPr/>
          </p:nvCxnSpPr>
          <p:spPr>
            <a:xfrm flipH="1" flipV="1" rot="5400000">
              <a:off x="2771640" y="973440"/>
              <a:ext cx="219240" cy="3384000"/>
            </a:xfrm>
            <a:prstGeom prst="bentConnector5">
              <a:avLst>
                <a:gd name="adj1" fmla="val 105921"/>
                <a:gd name="adj2" fmla="val 49867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17" name="_s2055"/>
            <p:cNvSpPr/>
            <p:nvPr/>
          </p:nvSpPr>
          <p:spPr>
            <a:xfrm>
              <a:off x="3843000" y="2119680"/>
              <a:ext cx="14605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2077"/>
            <p:cNvSpPr/>
            <p:nvPr/>
          </p:nvSpPr>
          <p:spPr>
            <a:xfrm>
              <a:off x="46836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2079"/>
            <p:cNvSpPr/>
            <p:nvPr/>
          </p:nvSpPr>
          <p:spPr>
            <a:xfrm>
              <a:off x="216000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2081"/>
            <p:cNvSpPr/>
            <p:nvPr/>
          </p:nvSpPr>
          <p:spPr>
            <a:xfrm>
              <a:off x="385164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_s2083"/>
            <p:cNvSpPr/>
            <p:nvPr/>
          </p:nvSpPr>
          <p:spPr>
            <a:xfrm>
              <a:off x="554328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_s2085"/>
            <p:cNvSpPr/>
            <p:nvPr/>
          </p:nvSpPr>
          <p:spPr>
            <a:xfrm>
              <a:off x="723492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76" name="_s69637"/>
            <p:cNvCxnSpPr>
              <a:stCxn id="677" idx="1"/>
              <a:endCxn id="678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9" name="_s69638"/>
            <p:cNvCxnSpPr>
              <a:stCxn id="680" idx="1"/>
              <a:endCxn id="678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1" name="_s69639"/>
            <p:cNvCxnSpPr>
              <a:stCxn id="682" idx="1"/>
              <a:endCxn id="678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3" name="_s69640"/>
            <p:cNvCxnSpPr>
              <a:stCxn id="684" idx="1"/>
              <a:endCxn id="678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8" name="_s69641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_s69642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_s69643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fra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_s69644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kehrsnet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_s69645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361320" y="2119680"/>
            <a:ext cx="2421360" cy="3506400"/>
            <a:chOff x="3361320" y="2119680"/>
            <a:chExt cx="2421360" cy="3506400"/>
          </a:xfrm>
        </p:grpSpPr>
        <p:cxnSp>
          <p:nvCxnSpPr>
            <p:cNvPr id="687" name="_s62469"/>
            <p:cNvCxnSpPr>
              <a:stCxn id="688" idx="1"/>
              <a:endCxn id="689" idx="2"/>
            </p:cNvCxnSpPr>
            <p:nvPr/>
          </p:nvCxnSpPr>
          <p:spPr>
            <a:xfrm rot="10800000">
              <a:off x="409032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0" name="_s62470"/>
            <p:cNvCxnSpPr>
              <a:stCxn id="691" idx="1"/>
              <a:endCxn id="689" idx="2"/>
            </p:cNvCxnSpPr>
            <p:nvPr/>
          </p:nvCxnSpPr>
          <p:spPr>
            <a:xfrm rot="10800000">
              <a:off x="409032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2" name="_s62471"/>
            <p:cNvCxnSpPr>
              <a:stCxn id="693" idx="1"/>
              <a:endCxn id="689" idx="2"/>
            </p:cNvCxnSpPr>
            <p:nvPr/>
          </p:nvCxnSpPr>
          <p:spPr>
            <a:xfrm rot="10800000">
              <a:off x="409032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4" name="_s62472"/>
            <p:cNvCxnSpPr>
              <a:stCxn id="695" idx="1"/>
              <a:endCxn id="689" idx="2"/>
            </p:cNvCxnSpPr>
            <p:nvPr/>
          </p:nvCxnSpPr>
          <p:spPr>
            <a:xfrm rot="10800000">
              <a:off x="409032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9" name="_s62473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_s62474"/>
            <p:cNvSpPr/>
            <p:nvPr/>
          </p:nvSpPr>
          <p:spPr>
            <a:xfrm>
              <a:off x="4339800" y="27745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_s62475"/>
            <p:cNvSpPr/>
            <p:nvPr/>
          </p:nvSpPr>
          <p:spPr>
            <a:xfrm>
              <a:off x="4339800" y="35560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ge der Objek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_s62476"/>
            <p:cNvSpPr/>
            <p:nvPr/>
          </p:nvSpPr>
          <p:spPr>
            <a:xfrm>
              <a:off x="4339800" y="43369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_s62477"/>
            <p:cNvSpPr/>
            <p:nvPr/>
          </p:nvSpPr>
          <p:spPr>
            <a:xfrm>
              <a:off x="4339800" y="51184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Rou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698" name="_s70661"/>
            <p:cNvCxnSpPr>
              <a:stCxn id="699" idx="0"/>
              <a:endCxn id="700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1" name="_s70662"/>
            <p:cNvCxnSpPr>
              <a:stCxn id="700" idx="0"/>
              <a:endCxn id="702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3" name="_s70663"/>
            <p:cNvCxnSpPr>
              <a:stCxn id="702" idx="0"/>
              <a:endCxn id="704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5" name="_s70664"/>
            <p:cNvCxnSpPr>
              <a:stCxn id="704" idx="0"/>
              <a:endCxn id="706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7" name="_s70665"/>
            <p:cNvCxnSpPr>
              <a:stCxn id="708" idx="0"/>
              <a:endCxn id="70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0" name="_s70666"/>
            <p:cNvCxnSpPr>
              <a:stCxn id="711" idx="0"/>
              <a:endCxn id="70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2" name="_s70667"/>
            <p:cNvCxnSpPr>
              <a:stCxn id="713" idx="0"/>
              <a:endCxn id="70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4" name="_s70668"/>
            <p:cNvCxnSpPr>
              <a:stCxn id="706" idx="0"/>
              <a:endCxn id="70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5" name="_s70669"/>
            <p:cNvCxnSpPr>
              <a:stCxn id="716" idx="0"/>
              <a:endCxn id="709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09" name="_s70670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_s70671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_s70672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_s70673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_s70674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_s70675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_s7067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_s70677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_s70678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_s70679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350160" y="2119680"/>
            <a:ext cx="2443680" cy="3462120"/>
            <a:chOff x="3350160" y="2119680"/>
            <a:chExt cx="2443680" cy="3462120"/>
          </a:xfrm>
        </p:grpSpPr>
        <p:cxnSp>
          <p:nvCxnSpPr>
            <p:cNvPr id="719" name="_s71685"/>
            <p:cNvCxnSpPr>
              <a:stCxn id="720" idx="1"/>
              <a:endCxn id="721" idx="2"/>
            </p:cNvCxnSpPr>
            <p:nvPr/>
          </p:nvCxnSpPr>
          <p:spPr>
            <a:xfrm rot="10800000">
              <a:off x="4102920" y="2711520"/>
              <a:ext cx="249120" cy="2640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2" name="_s71686"/>
            <p:cNvCxnSpPr>
              <a:stCxn id="723" idx="1"/>
              <a:endCxn id="721" idx="2"/>
            </p:cNvCxnSpPr>
            <p:nvPr/>
          </p:nvCxnSpPr>
          <p:spPr>
            <a:xfrm rot="10800000">
              <a:off x="4102920" y="2711520"/>
              <a:ext cx="249120" cy="19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4" name="_s71687"/>
            <p:cNvCxnSpPr>
              <a:stCxn id="725" idx="1"/>
              <a:endCxn id="721" idx="2"/>
            </p:cNvCxnSpPr>
            <p:nvPr/>
          </p:nvCxnSpPr>
          <p:spPr>
            <a:xfrm rot="10800000">
              <a:off x="4102920" y="2711520"/>
              <a:ext cx="249120" cy="1178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6" name="_s71688"/>
            <p:cNvCxnSpPr>
              <a:stCxn id="727" idx="1"/>
              <a:endCxn id="721" idx="2"/>
            </p:cNvCxnSpPr>
            <p:nvPr/>
          </p:nvCxnSpPr>
          <p:spPr>
            <a:xfrm rot="10800000">
              <a:off x="4102920" y="2711520"/>
              <a:ext cx="24912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21" name="_s71689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_s71690"/>
            <p:cNvSpPr/>
            <p:nvPr/>
          </p:nvSpPr>
          <p:spPr>
            <a:xfrm>
              <a:off x="4352400" y="293112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 fü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. Diens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_s71691"/>
            <p:cNvSpPr/>
            <p:nvPr/>
          </p:nvSpPr>
          <p:spPr>
            <a:xfrm>
              <a:off x="4352400" y="36622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_s71692"/>
            <p:cNvSpPr/>
            <p:nvPr/>
          </p:nvSpPr>
          <p:spPr>
            <a:xfrm>
              <a:off x="4352400" y="43930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_s71693"/>
            <p:cNvSpPr/>
            <p:nvPr/>
          </p:nvSpPr>
          <p:spPr>
            <a:xfrm>
              <a:off x="4352400" y="512460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30" name="_s72709"/>
            <p:cNvCxnSpPr>
              <a:stCxn id="731" idx="1"/>
              <a:endCxn id="732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3" name="_s72710"/>
            <p:cNvCxnSpPr>
              <a:stCxn id="734" idx="1"/>
              <a:endCxn id="732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5" name="_s72711"/>
            <p:cNvCxnSpPr>
              <a:stCxn id="736" idx="1"/>
              <a:endCxn id="732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7" name="_s72712"/>
            <p:cNvCxnSpPr>
              <a:stCxn id="738" idx="1"/>
              <a:endCxn id="732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32" name="_s72713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_s72714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_s72715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_s72716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_s72717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350160" y="2119680"/>
            <a:ext cx="2443680" cy="3663000"/>
            <a:chOff x="3350160" y="2119680"/>
            <a:chExt cx="2443680" cy="3663000"/>
          </a:xfrm>
        </p:grpSpPr>
        <p:cxnSp>
          <p:nvCxnSpPr>
            <p:cNvPr id="741" name="_s73733"/>
            <p:cNvCxnSpPr>
              <a:stCxn id="742" idx="1"/>
              <a:endCxn id="743" idx="2"/>
            </p:cNvCxnSpPr>
            <p:nvPr/>
          </p:nvCxnSpPr>
          <p:spPr>
            <a:xfrm rot="10800000">
              <a:off x="4102920" y="27115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4" name="_s73734"/>
            <p:cNvCxnSpPr>
              <a:stCxn id="745" idx="1"/>
              <a:endCxn id="743" idx="2"/>
            </p:cNvCxnSpPr>
            <p:nvPr/>
          </p:nvCxnSpPr>
          <p:spPr>
            <a:xfrm rot="10800000">
              <a:off x="4102920" y="27115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6" name="_s73735"/>
            <p:cNvCxnSpPr>
              <a:stCxn id="747" idx="1"/>
              <a:endCxn id="743" idx="2"/>
            </p:cNvCxnSpPr>
            <p:nvPr/>
          </p:nvCxnSpPr>
          <p:spPr>
            <a:xfrm rot="10800000">
              <a:off x="4102920" y="27115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8" name="_s73736"/>
            <p:cNvCxnSpPr>
              <a:stCxn id="749" idx="1"/>
              <a:endCxn id="743" idx="2"/>
            </p:cNvCxnSpPr>
            <p:nvPr/>
          </p:nvCxnSpPr>
          <p:spPr>
            <a:xfrm rot="10800000">
              <a:off x="4102920" y="27115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43" name="_s73737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_s73738"/>
            <p:cNvSpPr/>
            <p:nvPr/>
          </p:nvSpPr>
          <p:spPr>
            <a:xfrm>
              <a:off x="4352400" y="29311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_s73739"/>
            <p:cNvSpPr/>
            <p:nvPr/>
          </p:nvSpPr>
          <p:spPr>
            <a:xfrm>
              <a:off x="4352400" y="37123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_s73740"/>
            <p:cNvSpPr/>
            <p:nvPr/>
          </p:nvSpPr>
          <p:spPr>
            <a:xfrm>
              <a:off x="4352400" y="4493880"/>
              <a:ext cx="1441440" cy="507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ienstleist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_s73741"/>
            <p:cNvSpPr/>
            <p:nvPr/>
          </p:nvSpPr>
          <p:spPr>
            <a:xfrm>
              <a:off x="4352400" y="5275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nkurren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52" name="_s74757"/>
            <p:cNvCxnSpPr>
              <a:stCxn id="753" idx="1"/>
              <a:endCxn id="754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5" name="_s74758"/>
            <p:cNvCxnSpPr>
              <a:stCxn id="756" idx="1"/>
              <a:endCxn id="754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7" name="_s74759"/>
            <p:cNvCxnSpPr>
              <a:stCxn id="758" idx="1"/>
              <a:endCxn id="754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9" name="_s74760"/>
            <p:cNvCxnSpPr>
              <a:stCxn id="760" idx="1"/>
              <a:endCxn id="754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54" name="_s74761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_s74762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_s74763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_s74764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_s74765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aly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763" name="_s75781"/>
            <p:cNvCxnSpPr>
              <a:stCxn id="764" idx="0"/>
              <a:endCxn id="765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6" name="_s75782"/>
            <p:cNvCxnSpPr>
              <a:stCxn id="765" idx="0"/>
              <a:endCxn id="767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8" name="_s75783"/>
            <p:cNvCxnSpPr>
              <a:stCxn id="767" idx="0"/>
              <a:endCxn id="769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0" name="_s75784"/>
            <p:cNvCxnSpPr>
              <a:stCxn id="769" idx="0"/>
              <a:endCxn id="771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2" name="_s75785"/>
            <p:cNvCxnSpPr>
              <a:stCxn id="773" idx="0"/>
              <a:endCxn id="774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5" name="_s75786"/>
            <p:cNvCxnSpPr>
              <a:stCxn id="776" idx="0"/>
              <a:endCxn id="774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7" name="_s75787"/>
            <p:cNvCxnSpPr>
              <a:stCxn id="771" idx="0"/>
              <a:endCxn id="774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8" name="_s75788"/>
            <p:cNvCxnSpPr>
              <a:stCxn id="779" idx="0"/>
              <a:endCxn id="774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0" name="_s75789"/>
            <p:cNvCxnSpPr>
              <a:stCxn id="781" idx="0"/>
              <a:endCxn id="774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74" name="_s7579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7579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_s7579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_s7579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_s7579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_s7579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_s75796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_s75797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_s75798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_s75799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84" name="_s76805"/>
            <p:cNvCxnSpPr>
              <a:stCxn id="785" idx="1"/>
              <a:endCxn id="786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7" name="_s76806"/>
            <p:cNvCxnSpPr>
              <a:stCxn id="788" idx="1"/>
              <a:endCxn id="786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9" name="_s76807"/>
            <p:cNvCxnSpPr>
              <a:stCxn id="790" idx="1"/>
              <a:endCxn id="786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1" name="_s76808"/>
            <p:cNvCxnSpPr>
              <a:stCxn id="792" idx="1"/>
              <a:endCxn id="786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6" name="_s76809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_s76810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t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_s76811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_s76812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_s76813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95" name="_s77829"/>
            <p:cNvCxnSpPr>
              <a:stCxn id="796" idx="1"/>
              <a:endCxn id="797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8" name="_s77830"/>
            <p:cNvCxnSpPr>
              <a:stCxn id="799" idx="1"/>
              <a:endCxn id="797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0" name="_s77831"/>
            <p:cNvCxnSpPr>
              <a:stCxn id="801" idx="1"/>
              <a:endCxn id="797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2" name="_s77832"/>
            <p:cNvCxnSpPr>
              <a:stCxn id="803" idx="1"/>
              <a:endCxn id="797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97" name="_s77833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_s77834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_s77835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_s77836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_s77837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528" name="_s55329"/>
            <p:cNvCxnSpPr>
              <a:stCxn id="529" idx="0"/>
              <a:endCxn id="530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55301"/>
            <p:cNvCxnSpPr>
              <a:stCxn id="530" idx="0"/>
              <a:endCxn id="532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3" name="_s55302"/>
            <p:cNvCxnSpPr>
              <a:stCxn id="532" idx="0"/>
              <a:endCxn id="534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55307"/>
            <p:cNvCxnSpPr>
              <a:stCxn id="534" idx="0"/>
              <a:endCxn id="536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7" name="_s55308"/>
            <p:cNvCxnSpPr>
              <a:stCxn id="538" idx="0"/>
              <a:endCxn id="539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0" name="_s55309"/>
            <p:cNvCxnSpPr>
              <a:stCxn id="541" idx="0"/>
              <a:endCxn id="539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2" name="_s55310"/>
            <p:cNvCxnSpPr>
              <a:stCxn id="543" idx="0"/>
              <a:endCxn id="539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4" name="_s55311"/>
            <p:cNvCxnSpPr>
              <a:stCxn id="545" idx="0"/>
              <a:endCxn id="539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6" name="_s55312"/>
            <p:cNvCxnSpPr>
              <a:stCxn id="536" idx="0"/>
              <a:endCxn id="539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9" name="_s55313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55314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55315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55316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55317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55318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55319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55324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55325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55328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352680" y="2119680"/>
            <a:ext cx="2439720" cy="3506400"/>
            <a:chOff x="3352680" y="2119680"/>
            <a:chExt cx="2439720" cy="3506400"/>
          </a:xfrm>
        </p:grpSpPr>
        <p:cxnSp>
          <p:nvCxnSpPr>
            <p:cNvPr id="806" name="_s78853"/>
            <p:cNvCxnSpPr>
              <a:stCxn id="807" idx="1"/>
              <a:endCxn id="808" idx="2"/>
            </p:cNvCxnSpPr>
            <p:nvPr/>
          </p:nvCxnSpPr>
          <p:spPr>
            <a:xfrm rot="10800000">
              <a:off x="4100040" y="2554920"/>
              <a:ext cx="2509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9" name="_s78854"/>
            <p:cNvCxnSpPr>
              <a:stCxn id="810" idx="1"/>
              <a:endCxn id="808" idx="2"/>
            </p:cNvCxnSpPr>
            <p:nvPr/>
          </p:nvCxnSpPr>
          <p:spPr>
            <a:xfrm rot="10800000">
              <a:off x="4100040" y="2554920"/>
              <a:ext cx="2509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1" name="_s78855"/>
            <p:cNvCxnSpPr>
              <a:stCxn id="812" idx="1"/>
              <a:endCxn id="808" idx="2"/>
            </p:cNvCxnSpPr>
            <p:nvPr/>
          </p:nvCxnSpPr>
          <p:spPr>
            <a:xfrm rot="10800000">
              <a:off x="4100040" y="2554920"/>
              <a:ext cx="2509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3" name="_s78856"/>
            <p:cNvCxnSpPr>
              <a:stCxn id="814" idx="1"/>
              <a:endCxn id="808" idx="2"/>
            </p:cNvCxnSpPr>
            <p:nvPr/>
          </p:nvCxnSpPr>
          <p:spPr>
            <a:xfrm rot="10800000">
              <a:off x="4100040" y="2554920"/>
              <a:ext cx="2509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08" name="_s78857"/>
            <p:cNvSpPr/>
            <p:nvPr/>
          </p:nvSpPr>
          <p:spPr>
            <a:xfrm>
              <a:off x="335268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_s78858"/>
            <p:cNvSpPr/>
            <p:nvPr/>
          </p:nvSpPr>
          <p:spPr>
            <a:xfrm>
              <a:off x="435096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_s78859"/>
            <p:cNvSpPr/>
            <p:nvPr/>
          </p:nvSpPr>
          <p:spPr>
            <a:xfrm>
              <a:off x="435096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lanugs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Und Bau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_s78860"/>
            <p:cNvSpPr/>
            <p:nvPr/>
          </p:nvSpPr>
          <p:spPr>
            <a:xfrm>
              <a:off x="435096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_s78861"/>
            <p:cNvSpPr/>
            <p:nvPr/>
          </p:nvSpPr>
          <p:spPr>
            <a:xfrm>
              <a:off x="435096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rte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817" name="_s79877"/>
            <p:cNvCxnSpPr>
              <a:stCxn id="818" idx="1"/>
              <a:endCxn id="819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0" name="_s79878"/>
            <p:cNvCxnSpPr>
              <a:stCxn id="821" idx="1"/>
              <a:endCxn id="819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2" name="_s79879"/>
            <p:cNvCxnSpPr>
              <a:stCxn id="823" idx="1"/>
              <a:endCxn id="819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4" name="_s79880"/>
            <p:cNvCxnSpPr>
              <a:stCxn id="825" idx="1"/>
              <a:endCxn id="819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19" name="_s79881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_s79882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2-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_s79883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_s79884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/Vek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_s79885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schneid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828" name="_s80901"/>
            <p:cNvCxnSpPr>
              <a:stCxn id="829" idx="0"/>
              <a:endCxn id="830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1" name="_s80902"/>
            <p:cNvCxnSpPr>
              <a:stCxn id="830" idx="0"/>
              <a:endCxn id="832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3" name="_s80903"/>
            <p:cNvCxnSpPr>
              <a:stCxn id="832" idx="0"/>
              <a:endCxn id="834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5" name="_s80904"/>
            <p:cNvCxnSpPr>
              <a:stCxn id="834" idx="0"/>
              <a:endCxn id="836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7" name="_s80905"/>
            <p:cNvCxnSpPr>
              <a:stCxn id="838" idx="0"/>
              <a:endCxn id="83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0" name="_s80906"/>
            <p:cNvCxnSpPr>
              <a:stCxn id="836" idx="0"/>
              <a:endCxn id="83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1" name="_s80907"/>
            <p:cNvCxnSpPr>
              <a:stCxn id="842" idx="0"/>
              <a:endCxn id="83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3" name="_s80908"/>
            <p:cNvCxnSpPr>
              <a:stCxn id="844" idx="0"/>
              <a:endCxn id="83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5" name="_s80909"/>
            <p:cNvCxnSpPr>
              <a:stCxn id="846" idx="0"/>
              <a:endCxn id="839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39" name="_s8091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_s8091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_s8091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_s8091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_s8091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_s8091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_s8091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_s8091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_s8091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_s8091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Ver- u.Entsorg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306960" y="2119680"/>
            <a:ext cx="2530080" cy="3377160"/>
            <a:chOff x="3306960" y="2119680"/>
            <a:chExt cx="2530080" cy="3377160"/>
          </a:xfrm>
        </p:grpSpPr>
        <p:cxnSp>
          <p:nvCxnSpPr>
            <p:cNvPr id="849" name="_s81925"/>
            <p:cNvCxnSpPr>
              <a:stCxn id="850" idx="1"/>
              <a:endCxn id="851" idx="2"/>
            </p:cNvCxnSpPr>
            <p:nvPr/>
          </p:nvCxnSpPr>
          <p:spPr>
            <a:xfrm rot="10800000">
              <a:off x="4053960" y="27115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2" name="_s81926"/>
            <p:cNvCxnSpPr>
              <a:stCxn id="853" idx="1"/>
              <a:endCxn id="851" idx="2"/>
            </p:cNvCxnSpPr>
            <p:nvPr/>
          </p:nvCxnSpPr>
          <p:spPr>
            <a:xfrm rot="10800000">
              <a:off x="4053960" y="27115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4" name="_s81927"/>
            <p:cNvCxnSpPr>
              <a:stCxn id="855" idx="1"/>
              <a:endCxn id="851" idx="2"/>
            </p:cNvCxnSpPr>
            <p:nvPr/>
          </p:nvCxnSpPr>
          <p:spPr>
            <a:xfrm rot="10800000">
              <a:off x="4053960" y="2711520"/>
              <a:ext cx="24948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6" name="_s81928"/>
            <p:cNvCxnSpPr>
              <a:stCxn id="857" idx="1"/>
              <a:endCxn id="851" idx="2"/>
            </p:cNvCxnSpPr>
            <p:nvPr/>
          </p:nvCxnSpPr>
          <p:spPr>
            <a:xfrm rot="10800000">
              <a:off x="4053960" y="27115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51" name="_s81929"/>
            <p:cNvSpPr/>
            <p:nvPr/>
          </p:nvSpPr>
          <p:spPr>
            <a:xfrm>
              <a:off x="330696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_s81930"/>
            <p:cNvSpPr/>
            <p:nvPr/>
          </p:nvSpPr>
          <p:spPr>
            <a:xfrm>
              <a:off x="4303800" y="29311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_s81931"/>
            <p:cNvSpPr/>
            <p:nvPr/>
          </p:nvSpPr>
          <p:spPr>
            <a:xfrm>
              <a:off x="4303800" y="3641040"/>
              <a:ext cx="15332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rchitekt/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_s81932"/>
            <p:cNvSpPr/>
            <p:nvPr/>
          </p:nvSpPr>
          <p:spPr>
            <a:xfrm>
              <a:off x="4303800" y="435096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_s81933"/>
            <p:cNvSpPr/>
            <p:nvPr/>
          </p:nvSpPr>
          <p:spPr>
            <a:xfrm>
              <a:off x="4303800" y="50605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Bauen und Umwelt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305880" y="2119680"/>
            <a:ext cx="2533680" cy="3377160"/>
            <a:chOff x="3305880" y="2119680"/>
            <a:chExt cx="2533680" cy="3377160"/>
          </a:xfrm>
        </p:grpSpPr>
        <p:cxnSp>
          <p:nvCxnSpPr>
            <p:cNvPr id="860" name="_s82949"/>
            <p:cNvCxnSpPr>
              <a:stCxn id="861" idx="1"/>
              <a:endCxn id="862" idx="2"/>
            </p:cNvCxnSpPr>
            <p:nvPr/>
          </p:nvCxnSpPr>
          <p:spPr>
            <a:xfrm rot="10800000">
              <a:off x="405288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3" name="_s82950"/>
            <p:cNvCxnSpPr>
              <a:stCxn id="864" idx="1"/>
              <a:endCxn id="862" idx="2"/>
            </p:cNvCxnSpPr>
            <p:nvPr/>
          </p:nvCxnSpPr>
          <p:spPr>
            <a:xfrm rot="10800000">
              <a:off x="405288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5" name="_s82951"/>
            <p:cNvCxnSpPr>
              <a:stCxn id="866" idx="1"/>
              <a:endCxn id="862" idx="2"/>
            </p:cNvCxnSpPr>
            <p:nvPr/>
          </p:nvCxnSpPr>
          <p:spPr>
            <a:xfrm rot="10800000">
              <a:off x="405288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7" name="_s82952"/>
            <p:cNvCxnSpPr>
              <a:stCxn id="868" idx="1"/>
              <a:endCxn id="862" idx="2"/>
            </p:cNvCxnSpPr>
            <p:nvPr/>
          </p:nvCxnSpPr>
          <p:spPr>
            <a:xfrm rot="10800000">
              <a:off x="405288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2" name="_s82953"/>
            <p:cNvSpPr/>
            <p:nvPr/>
          </p:nvSpPr>
          <p:spPr>
            <a:xfrm>
              <a:off x="330588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_s82954"/>
            <p:cNvSpPr/>
            <p:nvPr/>
          </p:nvSpPr>
          <p:spPr>
            <a:xfrm>
              <a:off x="4302360" y="29311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, OP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_s82955"/>
            <p:cNvSpPr/>
            <p:nvPr/>
          </p:nvSpPr>
          <p:spPr>
            <a:xfrm>
              <a:off x="4302360" y="3641040"/>
              <a:ext cx="15372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dnungsbehörd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_s82956"/>
            <p:cNvSpPr/>
            <p:nvPr/>
          </p:nvSpPr>
          <p:spPr>
            <a:xfrm>
              <a:off x="4302360" y="435096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, Geodäsi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_s82957"/>
            <p:cNvSpPr/>
            <p:nvPr/>
          </p:nvSpPr>
          <p:spPr>
            <a:xfrm>
              <a:off x="4302360" y="50605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g.-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347280" y="2119680"/>
            <a:ext cx="2449440" cy="3377160"/>
            <a:chOff x="3347280" y="2119680"/>
            <a:chExt cx="2449440" cy="3377160"/>
          </a:xfrm>
        </p:grpSpPr>
        <p:cxnSp>
          <p:nvCxnSpPr>
            <p:cNvPr id="871" name="_s83973"/>
            <p:cNvCxnSpPr>
              <a:stCxn id="872" idx="1"/>
              <a:endCxn id="873" idx="2"/>
            </p:cNvCxnSpPr>
            <p:nvPr/>
          </p:nvCxnSpPr>
          <p:spPr>
            <a:xfrm rot="10800000">
              <a:off x="4094280" y="27115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4" name="_s83974"/>
            <p:cNvCxnSpPr>
              <a:stCxn id="875" idx="1"/>
              <a:endCxn id="873" idx="2"/>
            </p:cNvCxnSpPr>
            <p:nvPr/>
          </p:nvCxnSpPr>
          <p:spPr>
            <a:xfrm rot="10800000">
              <a:off x="4094280" y="27115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6" name="_s83975"/>
            <p:cNvCxnSpPr>
              <a:stCxn id="877" idx="1"/>
              <a:endCxn id="873" idx="2"/>
            </p:cNvCxnSpPr>
            <p:nvPr/>
          </p:nvCxnSpPr>
          <p:spPr>
            <a:xfrm rot="10800000">
              <a:off x="4094280" y="2711520"/>
              <a:ext cx="2509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8" name="_s83976"/>
            <p:cNvCxnSpPr>
              <a:stCxn id="879" idx="1"/>
              <a:endCxn id="873" idx="2"/>
            </p:cNvCxnSpPr>
            <p:nvPr/>
          </p:nvCxnSpPr>
          <p:spPr>
            <a:xfrm rot="10800000">
              <a:off x="4094280" y="27115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73" name="_s83977"/>
            <p:cNvSpPr/>
            <p:nvPr/>
          </p:nvSpPr>
          <p:spPr>
            <a:xfrm>
              <a:off x="3347280" y="2119680"/>
              <a:ext cx="14958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_s83978"/>
            <p:cNvSpPr/>
            <p:nvPr/>
          </p:nvSpPr>
          <p:spPr>
            <a:xfrm>
              <a:off x="4345560" y="29311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_s83979"/>
            <p:cNvSpPr/>
            <p:nvPr/>
          </p:nvSpPr>
          <p:spPr>
            <a:xfrm>
              <a:off x="4345560" y="3641040"/>
              <a:ext cx="1451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 + BR + Ordn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_s83980"/>
            <p:cNvSpPr/>
            <p:nvPr/>
          </p:nvSpPr>
          <p:spPr>
            <a:xfrm>
              <a:off x="4345560" y="435096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_s83981"/>
            <p:cNvSpPr/>
            <p:nvPr/>
          </p:nvSpPr>
          <p:spPr>
            <a:xfrm>
              <a:off x="4345560" y="50605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Eigent., Wer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3352680" y="2119680"/>
            <a:ext cx="2439720" cy="3377160"/>
            <a:chOff x="3352680" y="2119680"/>
            <a:chExt cx="2439720" cy="3377160"/>
          </a:xfrm>
        </p:grpSpPr>
        <p:cxnSp>
          <p:nvCxnSpPr>
            <p:cNvPr id="882" name="_s84997"/>
            <p:cNvCxnSpPr>
              <a:stCxn id="883" idx="1"/>
              <a:endCxn id="884" idx="2"/>
            </p:cNvCxnSpPr>
            <p:nvPr/>
          </p:nvCxnSpPr>
          <p:spPr>
            <a:xfrm rot="10800000">
              <a:off x="410004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5" name="_s84998"/>
            <p:cNvCxnSpPr>
              <a:stCxn id="886" idx="1"/>
              <a:endCxn id="884" idx="2"/>
            </p:cNvCxnSpPr>
            <p:nvPr/>
          </p:nvCxnSpPr>
          <p:spPr>
            <a:xfrm rot="10800000">
              <a:off x="410004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7" name="_s84999"/>
            <p:cNvCxnSpPr>
              <a:stCxn id="888" idx="1"/>
              <a:endCxn id="884" idx="2"/>
            </p:cNvCxnSpPr>
            <p:nvPr/>
          </p:nvCxnSpPr>
          <p:spPr>
            <a:xfrm rot="10800000">
              <a:off x="410004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9" name="_s85000"/>
            <p:cNvCxnSpPr>
              <a:stCxn id="890" idx="1"/>
              <a:endCxn id="884" idx="2"/>
            </p:cNvCxnSpPr>
            <p:nvPr/>
          </p:nvCxnSpPr>
          <p:spPr>
            <a:xfrm rot="10800000">
              <a:off x="410004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4" name="_s85001"/>
            <p:cNvSpPr/>
            <p:nvPr/>
          </p:nvSpPr>
          <p:spPr>
            <a:xfrm>
              <a:off x="3352680" y="2119680"/>
              <a:ext cx="14943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_s85002"/>
            <p:cNvSpPr/>
            <p:nvPr/>
          </p:nvSpPr>
          <p:spPr>
            <a:xfrm>
              <a:off x="434952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_s85003"/>
            <p:cNvSpPr/>
            <p:nvPr/>
          </p:nvSpPr>
          <p:spPr>
            <a:xfrm>
              <a:off x="434952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_s85004"/>
            <p:cNvSpPr/>
            <p:nvPr/>
          </p:nvSpPr>
          <p:spPr>
            <a:xfrm>
              <a:off x="434952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_s85005"/>
            <p:cNvSpPr/>
            <p:nvPr/>
          </p:nvSpPr>
          <p:spPr>
            <a:xfrm>
              <a:off x="434952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893" name="_s86021"/>
            <p:cNvCxnSpPr>
              <a:stCxn id="894" idx="0"/>
              <a:endCxn id="895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6" name="_s86022"/>
            <p:cNvCxnSpPr>
              <a:stCxn id="895" idx="0"/>
              <a:endCxn id="897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8" name="_s86023"/>
            <p:cNvCxnSpPr>
              <a:stCxn id="897" idx="0"/>
              <a:endCxn id="899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0" name="_s86024"/>
            <p:cNvCxnSpPr>
              <a:stCxn id="899" idx="0"/>
              <a:endCxn id="901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2" name="_s86025"/>
            <p:cNvCxnSpPr>
              <a:stCxn id="901" idx="0"/>
              <a:endCxn id="903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4" name="_s86026"/>
            <p:cNvCxnSpPr>
              <a:stCxn id="905" idx="0"/>
              <a:endCxn id="903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6" name="_s86027"/>
            <p:cNvCxnSpPr>
              <a:stCxn id="907" idx="0"/>
              <a:endCxn id="903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8" name="_s86028"/>
            <p:cNvCxnSpPr>
              <a:stCxn id="909" idx="0"/>
              <a:endCxn id="903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0" name="_s86029"/>
            <p:cNvCxnSpPr>
              <a:stCxn id="911" idx="0"/>
              <a:endCxn id="903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3" name="_s86030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_s86031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_s86032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_s86033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_s86034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_s86035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_s86036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_s86037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_s86038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_s86039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237480" y="2119680"/>
            <a:ext cx="2669040" cy="3220920"/>
            <a:chOff x="3237480" y="2119680"/>
            <a:chExt cx="2669040" cy="3220920"/>
          </a:xfrm>
        </p:grpSpPr>
        <p:cxnSp>
          <p:nvCxnSpPr>
            <p:cNvPr id="914" name="_s87045"/>
            <p:cNvCxnSpPr>
              <a:stCxn id="915" idx="1"/>
              <a:endCxn id="916" idx="2"/>
            </p:cNvCxnSpPr>
            <p:nvPr/>
          </p:nvCxnSpPr>
          <p:spPr>
            <a:xfrm rot="10800000">
              <a:off x="4124880" y="25549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7" name="_s87046"/>
            <p:cNvCxnSpPr>
              <a:stCxn id="918" idx="1"/>
              <a:endCxn id="916" idx="2"/>
            </p:cNvCxnSpPr>
            <p:nvPr/>
          </p:nvCxnSpPr>
          <p:spPr>
            <a:xfrm rot="10800000">
              <a:off x="4124880" y="25549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9" name="_s87047"/>
            <p:cNvCxnSpPr>
              <a:stCxn id="920" idx="1"/>
              <a:endCxn id="916" idx="2"/>
            </p:cNvCxnSpPr>
            <p:nvPr/>
          </p:nvCxnSpPr>
          <p:spPr>
            <a:xfrm rot="10800000">
              <a:off x="4124880" y="2554920"/>
              <a:ext cx="24948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1" name="_s87048"/>
            <p:cNvCxnSpPr>
              <a:stCxn id="922" idx="1"/>
              <a:endCxn id="916" idx="2"/>
            </p:cNvCxnSpPr>
            <p:nvPr/>
          </p:nvCxnSpPr>
          <p:spPr>
            <a:xfrm rot="10800000">
              <a:off x="4124880" y="25549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16" name="_s87049"/>
            <p:cNvSpPr/>
            <p:nvPr/>
          </p:nvSpPr>
          <p:spPr>
            <a:xfrm>
              <a:off x="3237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_s87050"/>
            <p:cNvSpPr/>
            <p:nvPr/>
          </p:nvSpPr>
          <p:spPr>
            <a:xfrm>
              <a:off x="4374720" y="277452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-Ing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_s87051"/>
            <p:cNvSpPr/>
            <p:nvPr/>
          </p:nvSpPr>
          <p:spPr>
            <a:xfrm>
              <a:off x="4374720" y="34840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ord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_s87052"/>
            <p:cNvSpPr/>
            <p:nvPr/>
          </p:nvSpPr>
          <p:spPr>
            <a:xfrm>
              <a:off x="4374720" y="4194360"/>
              <a:ext cx="1531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, Ausfüh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_s87053"/>
            <p:cNvSpPr/>
            <p:nvPr/>
          </p:nvSpPr>
          <p:spPr>
            <a:xfrm>
              <a:off x="4374720" y="49042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Ingenieurtechnik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255480" y="2119680"/>
            <a:ext cx="2634120" cy="3506400"/>
            <a:chOff x="3255480" y="2119680"/>
            <a:chExt cx="2634120" cy="3506400"/>
          </a:xfrm>
        </p:grpSpPr>
        <p:cxnSp>
          <p:nvCxnSpPr>
            <p:cNvPr id="925" name="_s88069"/>
            <p:cNvCxnSpPr>
              <a:stCxn id="926" idx="1"/>
              <a:endCxn id="927" idx="2"/>
            </p:cNvCxnSpPr>
            <p:nvPr/>
          </p:nvCxnSpPr>
          <p:spPr>
            <a:xfrm rot="10800000">
              <a:off x="414324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8" name="_s88070"/>
            <p:cNvCxnSpPr>
              <a:stCxn id="929" idx="1"/>
              <a:endCxn id="927" idx="2"/>
            </p:cNvCxnSpPr>
            <p:nvPr/>
          </p:nvCxnSpPr>
          <p:spPr>
            <a:xfrm rot="10800000">
              <a:off x="414324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0" name="_s88071"/>
            <p:cNvCxnSpPr>
              <a:stCxn id="931" idx="1"/>
              <a:endCxn id="927" idx="2"/>
            </p:cNvCxnSpPr>
            <p:nvPr/>
          </p:nvCxnSpPr>
          <p:spPr>
            <a:xfrm rot="10800000">
              <a:off x="414324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2" name="_s88072"/>
            <p:cNvCxnSpPr>
              <a:stCxn id="933" idx="1"/>
              <a:endCxn id="927" idx="2"/>
            </p:cNvCxnSpPr>
            <p:nvPr/>
          </p:nvCxnSpPr>
          <p:spPr>
            <a:xfrm rot="10800000">
              <a:off x="414324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7" name="_s88073"/>
            <p:cNvSpPr/>
            <p:nvPr/>
          </p:nvSpPr>
          <p:spPr>
            <a:xfrm>
              <a:off x="3255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_s88074"/>
            <p:cNvSpPr/>
            <p:nvPr/>
          </p:nvSpPr>
          <p:spPr>
            <a:xfrm>
              <a:off x="4392720" y="27745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achingenie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_s88075"/>
            <p:cNvSpPr/>
            <p:nvPr/>
          </p:nvSpPr>
          <p:spPr>
            <a:xfrm>
              <a:off x="4392720" y="35560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GeoB+PR +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_s88076"/>
            <p:cNvSpPr/>
            <p:nvPr/>
          </p:nvSpPr>
          <p:spPr>
            <a:xfrm>
              <a:off x="4392720" y="43369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_s88077"/>
            <p:cNvSpPr/>
            <p:nvPr/>
          </p:nvSpPr>
          <p:spPr>
            <a:xfrm>
              <a:off x="4392720" y="51184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549" name="_s64547"/>
            <p:cNvCxnSpPr>
              <a:stCxn id="550" idx="0"/>
              <a:endCxn id="551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2" name="_s64545"/>
            <p:cNvCxnSpPr>
              <a:stCxn id="551" idx="0"/>
              <a:endCxn id="553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4" name="_s64541"/>
            <p:cNvCxnSpPr>
              <a:stCxn id="553" idx="0"/>
              <a:endCxn id="555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6" name="_s64537"/>
            <p:cNvCxnSpPr>
              <a:stCxn id="555" idx="0"/>
              <a:endCxn id="557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8" name="_s64521"/>
            <p:cNvCxnSpPr>
              <a:stCxn id="559" idx="0"/>
              <a:endCxn id="560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1" name="_s64522"/>
            <p:cNvCxnSpPr>
              <a:stCxn id="562" idx="0"/>
              <a:endCxn id="560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3" name="_s64523"/>
            <p:cNvCxnSpPr>
              <a:stCxn id="564" idx="0"/>
              <a:endCxn id="560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5" name="_s64524"/>
            <p:cNvCxnSpPr>
              <a:stCxn id="557" idx="0"/>
              <a:endCxn id="560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6" name="_s64525"/>
            <p:cNvCxnSpPr>
              <a:stCxn id="567" idx="0"/>
              <a:endCxn id="560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0" name="_s64526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_s64527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_s64528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_s64529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_s64530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_s64531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_s6453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_s64540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_s64544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64546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255480" y="2119680"/>
            <a:ext cx="2633040" cy="3220920"/>
            <a:chOff x="3255480" y="2119680"/>
            <a:chExt cx="2633040" cy="3220920"/>
          </a:xfrm>
        </p:grpSpPr>
        <p:cxnSp>
          <p:nvCxnSpPr>
            <p:cNvPr id="936" name="_s89093"/>
            <p:cNvCxnSpPr>
              <a:stCxn id="937" idx="1"/>
              <a:endCxn id="938" idx="2"/>
            </p:cNvCxnSpPr>
            <p:nvPr/>
          </p:nvCxnSpPr>
          <p:spPr>
            <a:xfrm rot="10800000">
              <a:off x="414324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9" name="_s89094"/>
            <p:cNvCxnSpPr>
              <a:stCxn id="940" idx="1"/>
              <a:endCxn id="938" idx="2"/>
            </p:cNvCxnSpPr>
            <p:nvPr/>
          </p:nvCxnSpPr>
          <p:spPr>
            <a:xfrm rot="10800000">
              <a:off x="414324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1" name="_s89095"/>
            <p:cNvCxnSpPr>
              <a:stCxn id="942" idx="1"/>
              <a:endCxn id="938" idx="2"/>
            </p:cNvCxnSpPr>
            <p:nvPr/>
          </p:nvCxnSpPr>
          <p:spPr>
            <a:xfrm rot="10800000">
              <a:off x="414324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3" name="_s89096"/>
            <p:cNvCxnSpPr>
              <a:stCxn id="944" idx="1"/>
              <a:endCxn id="938" idx="2"/>
            </p:cNvCxnSpPr>
            <p:nvPr/>
          </p:nvCxnSpPr>
          <p:spPr>
            <a:xfrm rot="10800000">
              <a:off x="414324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8" name="_s89097"/>
            <p:cNvSpPr/>
            <p:nvPr/>
          </p:nvSpPr>
          <p:spPr>
            <a:xfrm>
              <a:off x="3255480" y="2119680"/>
              <a:ext cx="17737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_s89098"/>
            <p:cNvSpPr/>
            <p:nvPr/>
          </p:nvSpPr>
          <p:spPr>
            <a:xfrm>
              <a:off x="4392720" y="27745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:1-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_s89099"/>
            <p:cNvSpPr/>
            <p:nvPr/>
          </p:nvSpPr>
          <p:spPr>
            <a:xfrm>
              <a:off x="4392720" y="34840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 + F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_s89100"/>
            <p:cNvSpPr/>
            <p:nvPr/>
          </p:nvSpPr>
          <p:spPr>
            <a:xfrm>
              <a:off x="4392720" y="419436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nder-Topograf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_s89101"/>
            <p:cNvSpPr/>
            <p:nvPr/>
          </p:nvSpPr>
          <p:spPr>
            <a:xfrm>
              <a:off x="4392720" y="49042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öhen, 3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282120" y="2119680"/>
            <a:ext cx="2580120" cy="3220920"/>
            <a:chOff x="3282120" y="2119680"/>
            <a:chExt cx="2580120" cy="3220920"/>
          </a:xfrm>
        </p:grpSpPr>
        <p:cxnSp>
          <p:nvCxnSpPr>
            <p:cNvPr id="947" name="_s90117"/>
            <p:cNvCxnSpPr>
              <a:stCxn id="948" idx="1"/>
              <a:endCxn id="949" idx="2"/>
            </p:cNvCxnSpPr>
            <p:nvPr/>
          </p:nvCxnSpPr>
          <p:spPr>
            <a:xfrm rot="10800000">
              <a:off x="4168080" y="25549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0" name="_s90118"/>
            <p:cNvCxnSpPr>
              <a:stCxn id="951" idx="1"/>
              <a:endCxn id="949" idx="2"/>
            </p:cNvCxnSpPr>
            <p:nvPr/>
          </p:nvCxnSpPr>
          <p:spPr>
            <a:xfrm rot="10800000">
              <a:off x="4168080" y="25549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2" name="_s90119"/>
            <p:cNvCxnSpPr>
              <a:stCxn id="953" idx="1"/>
              <a:endCxn id="949" idx="2"/>
            </p:cNvCxnSpPr>
            <p:nvPr/>
          </p:nvCxnSpPr>
          <p:spPr>
            <a:xfrm rot="10800000">
              <a:off x="4168080" y="2554920"/>
              <a:ext cx="2509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4" name="_s90120"/>
            <p:cNvCxnSpPr>
              <a:stCxn id="955" idx="1"/>
              <a:endCxn id="949" idx="2"/>
            </p:cNvCxnSpPr>
            <p:nvPr/>
          </p:nvCxnSpPr>
          <p:spPr>
            <a:xfrm rot="10800000">
              <a:off x="4168080" y="25549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49" name="_s90121"/>
            <p:cNvSpPr/>
            <p:nvPr/>
          </p:nvSpPr>
          <p:spPr>
            <a:xfrm>
              <a:off x="3282120" y="2119680"/>
              <a:ext cx="17733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_s90122"/>
            <p:cNvSpPr/>
            <p:nvPr/>
          </p:nvSpPr>
          <p:spPr>
            <a:xfrm>
              <a:off x="4419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_s90123"/>
            <p:cNvSpPr/>
            <p:nvPr/>
          </p:nvSpPr>
          <p:spPr>
            <a:xfrm>
              <a:off x="441936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_s90124"/>
            <p:cNvSpPr/>
            <p:nvPr/>
          </p:nvSpPr>
          <p:spPr>
            <a:xfrm>
              <a:off x="441936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_s90125"/>
            <p:cNvSpPr/>
            <p:nvPr/>
          </p:nvSpPr>
          <p:spPr>
            <a:xfrm>
              <a:off x="441936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570" name="_s65567"/>
            <p:cNvCxnSpPr>
              <a:stCxn id="571" idx="0"/>
              <a:endCxn id="572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3" name="_s65565"/>
            <p:cNvCxnSpPr>
              <a:stCxn id="572" idx="0"/>
              <a:endCxn id="574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5" name="_s65563"/>
            <p:cNvCxnSpPr>
              <a:stCxn id="574" idx="0"/>
              <a:endCxn id="576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7" name="_s65561"/>
            <p:cNvCxnSpPr>
              <a:stCxn id="576" idx="0"/>
              <a:endCxn id="578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9" name="_s65545"/>
            <p:cNvCxnSpPr>
              <a:stCxn id="580" idx="0"/>
              <a:endCxn id="581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2" name="_s65546"/>
            <p:cNvCxnSpPr>
              <a:stCxn id="583" idx="0"/>
              <a:endCxn id="581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4" name="_s65547"/>
            <p:cNvCxnSpPr>
              <a:stCxn id="578" idx="0"/>
              <a:endCxn id="581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65548"/>
            <p:cNvCxnSpPr>
              <a:stCxn id="586" idx="0"/>
              <a:endCxn id="581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65549"/>
            <p:cNvCxnSpPr>
              <a:stCxn id="588" idx="0"/>
              <a:endCxn id="581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1" name="_s655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6555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6555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_s6555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_s6555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_s6555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_s65560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_s65562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_s65564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_s65566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591" name="_s91141"/>
            <p:cNvCxnSpPr>
              <a:stCxn id="592" idx="0"/>
              <a:endCxn id="593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4" name="_s91142"/>
            <p:cNvCxnSpPr>
              <a:stCxn id="593" idx="0"/>
              <a:endCxn id="595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6" name="_s91143"/>
            <p:cNvCxnSpPr>
              <a:stCxn id="595" idx="0"/>
              <a:endCxn id="597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8" name="_s91144"/>
            <p:cNvCxnSpPr>
              <a:stCxn id="597" idx="0"/>
              <a:endCxn id="599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0" name="_s91145"/>
            <p:cNvCxnSpPr>
              <a:stCxn id="601" idx="0"/>
              <a:endCxn id="602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3" name="_s91146"/>
            <p:cNvCxnSpPr>
              <a:stCxn id="599" idx="0"/>
              <a:endCxn id="602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4" name="_s91147"/>
            <p:cNvCxnSpPr>
              <a:stCxn id="605" idx="0"/>
              <a:endCxn id="602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6" name="_s91148"/>
            <p:cNvCxnSpPr>
              <a:stCxn id="607" idx="0"/>
              <a:endCxn id="602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8" name="_s91149"/>
            <p:cNvCxnSpPr>
              <a:stCxn id="609" idx="0"/>
              <a:endCxn id="602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2" name="_s911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9115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9115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9115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_s9115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9115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_s9115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_s9115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_s9115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_s9115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- u. Entsorgung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612" name="_s92165"/>
            <p:cNvCxnSpPr>
              <a:stCxn id="613" idx="0"/>
              <a:endCxn id="614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5" name="_s92166"/>
            <p:cNvCxnSpPr>
              <a:stCxn id="614" idx="0"/>
              <a:endCxn id="616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7" name="_s92167"/>
            <p:cNvCxnSpPr>
              <a:stCxn id="616" idx="0"/>
              <a:endCxn id="618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9" name="_s92168"/>
            <p:cNvCxnSpPr>
              <a:stCxn id="618" idx="0"/>
              <a:endCxn id="620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1" name="_s92169"/>
            <p:cNvCxnSpPr>
              <a:stCxn id="620" idx="0"/>
              <a:endCxn id="622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3" name="_s92170"/>
            <p:cNvCxnSpPr>
              <a:stCxn id="624" idx="0"/>
              <a:endCxn id="622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5" name="_s92171"/>
            <p:cNvCxnSpPr>
              <a:stCxn id="626" idx="0"/>
              <a:endCxn id="622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7" name="_s92172"/>
            <p:cNvCxnSpPr>
              <a:stCxn id="628" idx="0"/>
              <a:endCxn id="622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9" name="_s92173"/>
            <p:cNvCxnSpPr>
              <a:stCxn id="630" idx="0"/>
              <a:endCxn id="622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2" name="_s92174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_s92175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_s92176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92177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92178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_s92179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92180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92181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92182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92183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633" name="_s68613"/>
            <p:cNvCxnSpPr>
              <a:stCxn id="634" idx="0"/>
              <a:endCxn id="635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6" name="_s68614"/>
            <p:cNvCxnSpPr>
              <a:stCxn id="635" idx="0"/>
              <a:endCxn id="637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8" name="_s68615"/>
            <p:cNvCxnSpPr>
              <a:stCxn id="637" idx="0"/>
              <a:endCxn id="639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0" name="_s68616"/>
            <p:cNvCxnSpPr>
              <a:stCxn id="639" idx="0"/>
              <a:endCxn id="641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2" name="_s68617"/>
            <p:cNvCxnSpPr>
              <a:stCxn id="643" idx="0"/>
              <a:endCxn id="644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5" name="_s68618"/>
            <p:cNvCxnSpPr>
              <a:stCxn id="646" idx="0"/>
              <a:endCxn id="644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7" name="_s68619"/>
            <p:cNvCxnSpPr>
              <a:stCxn id="648" idx="0"/>
              <a:endCxn id="644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9" name="_s68620"/>
            <p:cNvCxnSpPr>
              <a:stCxn id="650" idx="0"/>
              <a:endCxn id="644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1" name="_s68621"/>
            <p:cNvCxnSpPr>
              <a:stCxn id="641" idx="0"/>
              <a:endCxn id="644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44" name="_s68622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68623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_s68624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68625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68626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68627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68628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68629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68630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68631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362400" y="2119680"/>
            <a:ext cx="2420280" cy="3506400"/>
            <a:chOff x="3362400" y="2119680"/>
            <a:chExt cx="2420280" cy="3506400"/>
          </a:xfrm>
        </p:grpSpPr>
        <p:cxnSp>
          <p:nvCxnSpPr>
            <p:cNvPr id="654" name="_s58397"/>
            <p:cNvCxnSpPr>
              <a:stCxn id="655" idx="1"/>
              <a:endCxn id="656" idx="2"/>
            </p:cNvCxnSpPr>
            <p:nvPr/>
          </p:nvCxnSpPr>
          <p:spPr>
            <a:xfrm rot="10800000">
              <a:off x="4091760" y="2554920"/>
              <a:ext cx="24948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7" name="_s58395"/>
            <p:cNvCxnSpPr>
              <a:stCxn id="658" idx="1"/>
              <a:endCxn id="656" idx="2"/>
            </p:cNvCxnSpPr>
            <p:nvPr/>
          </p:nvCxnSpPr>
          <p:spPr>
            <a:xfrm rot="10800000">
              <a:off x="4091760" y="2554920"/>
              <a:ext cx="24948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9" name="_s58393"/>
            <p:cNvCxnSpPr>
              <a:stCxn id="660" idx="1"/>
              <a:endCxn id="656" idx="2"/>
            </p:cNvCxnSpPr>
            <p:nvPr/>
          </p:nvCxnSpPr>
          <p:spPr>
            <a:xfrm rot="10800000">
              <a:off x="4091760" y="2554920"/>
              <a:ext cx="24948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1" name="_s58377"/>
            <p:cNvCxnSpPr>
              <a:stCxn id="662" idx="1"/>
              <a:endCxn id="656" idx="2"/>
            </p:cNvCxnSpPr>
            <p:nvPr/>
          </p:nvCxnSpPr>
          <p:spPr>
            <a:xfrm rot="10800000">
              <a:off x="4091760" y="2554920"/>
              <a:ext cx="24948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6" name="_s58382"/>
            <p:cNvSpPr/>
            <p:nvPr/>
          </p:nvSpPr>
          <p:spPr>
            <a:xfrm>
              <a:off x="336240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_s58387"/>
            <p:cNvSpPr/>
            <p:nvPr/>
          </p:nvSpPr>
          <p:spPr>
            <a:xfrm>
              <a:off x="434124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ouris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_s58392"/>
            <p:cNvSpPr/>
            <p:nvPr/>
          </p:nvSpPr>
          <p:spPr>
            <a:xfrm>
              <a:off x="434124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izeitbür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_s58394"/>
            <p:cNvSpPr/>
            <p:nvPr/>
          </p:nvSpPr>
          <p:spPr>
            <a:xfrm>
              <a:off x="434124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_s58396"/>
            <p:cNvSpPr/>
            <p:nvPr/>
          </p:nvSpPr>
          <p:spPr>
            <a:xfrm>
              <a:off x="434124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.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65" name="_s61445"/>
            <p:cNvCxnSpPr>
              <a:stCxn id="666" idx="1"/>
              <a:endCxn id="667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8" name="_s61446"/>
            <p:cNvCxnSpPr>
              <a:stCxn id="669" idx="1"/>
              <a:endCxn id="667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0" name="_s61447"/>
            <p:cNvCxnSpPr>
              <a:stCxn id="671" idx="1"/>
              <a:endCxn id="667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2" name="_s61448"/>
            <p:cNvCxnSpPr>
              <a:stCxn id="673" idx="1"/>
              <a:endCxn id="667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_s61449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_s61450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_s61451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_s61452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_s61453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0:37:25Z</dcterms:created>
  <dc:creator>r.lach</dc:creator>
  <dc:description/>
  <dc:language>en-US</dc:language>
  <cp:lastModifiedBy>r.lach</cp:lastModifiedBy>
  <dcterms:modified xsi:type="dcterms:W3CDTF">2002-12-19T15:53:15Z</dcterms:modified>
  <cp:revision>6</cp:revision>
  <dc:subject/>
  <dc:title>RSIG-GDI: Kommunale Daten  Szenarien</dc:title>
</cp:coreProperties>
</file>